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C5D-360C-451B-B1BF-B5412751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186-DF9D-4AA6-9CA7-146EED1A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gaeforbiofuels.com/genetic-engineering-brief-overvie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274-2670-42BF-9926-88D73FA0D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000-8B12-44FB-8CB3-33C73256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ysticfibrosis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bsite has a lot of information about th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790-2256-4E86-8C3B-A92DB3E6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E72-20CA-4988-9B45-8FC516B2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graphic from: http://www.cdc.gov/cancer/breast/young_women/knowbrc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F28-B4CC-4D48-9C1D-8333F327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ontario.ca/page/progress-report-2014-health-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77F8-85E4-44C0-8C5D-9F449B71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ama.ama-assn.org/content/292/19/2325.sh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E221-3D57-46CB-A793-1380F50F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s screened: https://www.newbornscreening.on.ca/en/about-screening/diseases-scre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996-ED1B-4772-A8D9-5E82A32C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702-B85F-46EE-866D-9E00CB42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60D-5EAD-471F-A07E-2FB21204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C7B-205C-460F-91F9-C361CE47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64A-F50C-4BB9-A090-3056A49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CE0-5F98-42EA-8C0C-795D9909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B25-CF28-4F79-AF6D-95A2F222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82E-2D2E-49AB-85D5-F73AB39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CF7-FF91-4EAA-AD01-9CAE556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B99-8AF1-4297-975F-565D8324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86D-208D-451C-BBB9-1D558305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521-CD7B-4BDD-9E69-EEAED71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7AE-012F-40B5-AA19-3CF385AD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Disord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ar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identification of some hereditary disorders can help to allow for treatment to minimize symptoms throug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iss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fcan"/>
          <p:cNvPicPr/>
          <p:nvPr/>
        </p:nvPicPr>
        <p:blipFill>
          <a:blip r:embed="rId1"/>
          <a:stretch/>
        </p:blipFill>
        <p:spPr>
          <a:xfrm>
            <a:off x="685800" y="2071800"/>
            <a:ext cx="7772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known mutations that lead to CF (can detect 80% of CF mu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verproduction of mucus that clogs lungs and pancreatic duct, and leads to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Know_Brca_Infographic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orms caused by mutations in BRCA1 or BRCA2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tumour-suppressing genes; defective genes cause tumours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12% chance of developing breast cancer;  defective genes increase chance to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ketonuria (P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 autosomal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cks enzyme to break down amino acid phenylalanine (needed to make proteins &amp; essential brain chemic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tected early, changes in diet can allow individual to live norm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Screen Shot 2018-05-09 at 3.12.13 PM.png"/>
          <p:cNvPicPr/>
          <p:nvPr/>
        </p:nvPicPr>
        <p:blipFill>
          <a:blip r:embed="rId1"/>
          <a:srcRect l="0" t="-51372" r="0" b="-5137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raphic-1"/>
          <p:cNvPicPr/>
          <p:nvPr/>
        </p:nvPicPr>
        <p:blipFill>
          <a:blip r:embed="rId1"/>
          <a:stretch/>
        </p:blipFill>
        <p:spPr>
          <a:xfrm>
            <a:off x="1862280" y="609480"/>
            <a:ext cx="541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combined immune de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31" descr="New_Ontario_logo"/>
          <p:cNvPicPr/>
          <p:nvPr/>
        </p:nvPicPr>
        <p:blipFill>
          <a:blip r:embed="rId1"/>
          <a:stretch/>
        </p:blipFill>
        <p:spPr>
          <a:xfrm>
            <a:off x="2448000" y="5048280"/>
            <a:ext cx="4246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0:54Z</dcterms:created>
  <dc:creator>rubina khan</dc:creator>
  <dc:description/>
  <dc:language>en-US</dc:language>
  <cp:lastModifiedBy>rubina khan</cp:lastModifiedBy>
  <dcterms:modified xsi:type="dcterms:W3CDTF">2018-05-09T19:15:01Z</dcterms:modified>
  <cp:revision>87</cp:revision>
  <dc:subject/>
  <dc:title>Genetic Engineering Biotechnology &amp; Helath</dc:title>
</cp:coreProperties>
</file>